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868-AFD9-4A9D-86AE-7D589A6C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63C-C578-48BD-AABF-9E47572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06C-2B48-4AE6-98EA-93AD6270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E62-AE05-4CB7-B3CA-25456BDB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427C-7394-4C67-8251-7A3DA86D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30C7-1D3C-411A-B883-508EAD20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DF6-83B1-4FFD-8A13-7D654273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284C-E373-4D2B-B07E-1FF29D76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3854-988D-46EB-A2D0-CC0DB2B1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CE6-CB99-497B-9AF2-26E4461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CD2-90C4-4141-9A4F-3C7EF39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06A-EC31-415B-BDD3-8E0FA2F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7E8-29AF-4DD6-8816-D23A64A5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8B7-3F0E-4A55-B058-9F17D55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E7E4-0C38-4BA1-84EA-C400B737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5FE8-964A-4197-A867-0CE8BFC2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D502-F699-4B33-B4F0-829A129E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30D-9416-4975-8F66-C9375D66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F8E-F22F-4FFB-BA5E-44069B26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3DE-3396-4D00-9112-A37C970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7EB-B349-4A7C-8F3B-9F519BF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F02-0768-455A-8A03-FE896B1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348-2586-4395-A958-2CECC4D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F2B-0763-444F-BF40-FC92F9D2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E73-DB74-4293-908D-63AB0D914B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0A9-18C2-449B-8F0A-C73AE1973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xchange.smarttech.com/#tab=0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ursday Tech Academy Inf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Technolog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exchange.smarttech.com/#ta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Handou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ducation.smarttech.com/ste/en-S/Ed+Resource/Teachers+Hub/Getting+started/SBiW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Board User Gu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nstructech.usi.edu/smartboardguid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cni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icnik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1992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dac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ss.audacit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acity is free software, cross-platform digital audio editor and recording application.  A download of the application to your computer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imo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imot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553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oondoo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5534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4:27:18Z</dcterms:created>
  <dc:creator>setupuser</dc:creator>
  <dc:description/>
  <dc:language>en-US</dc:language>
  <cp:lastModifiedBy>setupuser</cp:lastModifiedBy>
  <dcterms:modified xsi:type="dcterms:W3CDTF">2010-06-18T14:53:32Z</dcterms:modified>
  <cp:revision>5</cp:revision>
  <dc:subject/>
  <dc:title>Slide 1</dc:title>
</cp:coreProperties>
</file>